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7F4-1AB6-4E9A-BAA2-5BD18C60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FF9D-C7D7-4874-B85B-28CDFD2D6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0805-0C47-4AFD-89E8-66DAA65A5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33C5-9A28-4763-AE94-B888B25F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1996-F7D5-47B4-B32B-389E39142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7CA5-3956-4BE2-A498-31F4AA571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86D-D667-482C-817A-5CF82C2B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366A-9CF6-4FBF-B05B-13073331E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CDD0-6BA2-4C4E-9C52-371537C8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AEB1-9916-4027-91CD-804893848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26EE-AD7F-4813-93A0-6CBCBE0B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91BE-899E-4A73-817E-55AA372B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AF5A51D-2A9B-44CE-9AB3-1052C10CF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Bibanking We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632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373880" cy="4562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otificación Electr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5248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cc00"/>
                </a:solidFill>
                <a:latin typeface="Times New Roman"/>
              </a:rPr>
              <a:t>Ejemplo  Nota de Crèdito / Deb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6320" y="1309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5280120" cy="3038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1295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5562720" cy="29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99072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286000"/>
            <a:ext cx="685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609480"/>
            <a:ext cx="2438280" cy="2819520"/>
          </a:xfrm>
          <a:prstGeom prst="leftArrowCallout">
            <a:avLst>
              <a:gd name="adj1" fmla="val 28911"/>
              <a:gd name="adj2" fmla="val 28909"/>
              <a:gd name="adj3" fmla="val 16667"/>
              <a:gd name="adj4" fmla="val 66673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838080"/>
            <a:ext cx="1447560" cy="21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l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De Nota de Crédito o Débito puede ser el mismo  para el cliente y para el provee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t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aparece en el Estado de cuenta de amb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Búsqueda de Convenios a utiliz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1544760"/>
            <a:ext cx="770400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8785440" cy="3743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706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Tipos de convenios en proveedo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4427640" cy="324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00720" y="1989000"/>
            <a:ext cx="4643280" cy="324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Importación de arch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424720" cy="229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8462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770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Ingreso Man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32720" cy="282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763272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770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Importacion cheque Caja / Vouc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6696360" cy="30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6697800" cy="2565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Importación Crédi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252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utorización de L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63640" y="692280"/>
            <a:ext cx="5256360" cy="120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9144000" cy="3851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70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Bibanking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rge Roberto Ortega Chacon</dc:creator>
  <dc:description/>
  <dc:language>en-US</dc:language>
  <cp:lastModifiedBy>ogarrido</cp:lastModifiedBy>
  <dcterms:modified xsi:type="dcterms:W3CDTF">2008-06-09T23:12:44Z</dcterms:modified>
  <cp:revision>4</cp:revision>
  <dc:subject/>
  <dc:title>Pago Proveedores</dc:title>
</cp:coreProperties>
</file>